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500-70BB-4123-906A-1796890D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C7B-46B5-47A4-9ED6-3C378FB5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797-12AD-4E3F-B95D-0AEC16D6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BDD-BAD6-4F21-83F3-6752AC73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54719-2E87-4DAC-8FF7-60DAADD4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B5BFA-27D4-419D-AAFD-4DD1A893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5ECE5-785F-4BBD-A18E-48EDD376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99FAA-2371-4BE0-8871-3698797B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B12EC-E315-4797-8755-F33A24EF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29D25-1123-4124-88B8-7D1AE3C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C5748-F680-48DA-A2F9-8DA05E1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C0F-EA64-45CF-99C3-DD46F47A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52FF8-0F94-4A6C-9F73-5D61051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847B5-0898-4B78-AAE2-09C936B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864A6-E5E8-40ED-AD27-3EDC049F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67774-3E33-44EE-A6CC-DC95D9DB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EDA40-1F8D-4C63-97A7-F944A541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C9BD-ACED-4281-AE20-F5720D80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8B23-FF95-4DEF-8C53-EA45A60D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7D2C-F475-4515-AD39-173980EC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4EC2-3837-4215-B314-DDCA6177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16AB-8B77-4BCC-BC48-2047460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D68-9BA1-491F-BBCB-B189BB2B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5E34-CA85-473C-BA7B-FD6ACBC7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2F45-8140-4334-82E3-03C8C374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A11B-C7F4-42F1-B46A-7B8F24A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7857-AA76-4374-A2AD-9364F29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329E-12D4-4261-B552-A369DA22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0F59-D2D8-43F2-AF82-BC320473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7F52-3B5E-4B8C-A615-A9E543DB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10DF-D463-4796-B1F5-97AE0043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8443-DBCF-4F05-BB29-9A17601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C01C-3936-4BB5-8193-27A24C5A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BBB-9CA7-46B7-88E6-1FB8DB35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54AF5-29A8-4636-A8EE-8C5C47C4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803FF-E03E-48B5-AF1F-940C2552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9C90-1DB7-4DF4-B170-7431BFA5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8A85E-79AC-48ED-9908-4CEB989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4E672-06AF-4043-A1AE-11A2D6BE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587A3-114C-4846-8FAC-EFBCE09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DFCB-C9CE-4849-958F-EEA4EF32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39321-1342-424B-B9CC-0F716DC6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6542-2C45-4487-ABD9-19422DCD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B98-49FE-4FD9-8A13-8CAC5B7F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2D6-C074-4743-B06D-5568251F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6D5-4A82-479E-B554-EB01348D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30B-B592-46A3-A47B-66CBB66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8F8-44EC-4BF3-9590-BAC7FA2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40B1-E14B-457B-BFB0-92C9BD04B6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7775-CA8E-4664-92F4-85FD18FB7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4033-0117-49A7-80D1-FA58B55E603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5B43-AA0D-42D4-BB51-BB61A2805D0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as Comidas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By, Jonathan Lev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1523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752480"/>
            <a:ext cx="5315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ject by Jonathan Le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igns by Jonathan Le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ctures found on Google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ctures Inserted by Jonathan Le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lide designs by Jonathan Le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lide Transition Animations by Jonathan Lev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7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00"/>
                </a:solidFill>
                <a:latin typeface="Arial"/>
              </a:rPr>
              <a:t>El Desayuno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1581120" cy="1676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60948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huevo-fr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457200" y="40384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3520" y="3657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d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a7d00"/>
                </a:solidFill>
                <a:latin typeface="Arial"/>
              </a:rPr>
              <a:t>Toc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2895480" y="2286000"/>
            <a:ext cx="2438640" cy="2144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355200" y="159948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63416"/>
                </a:solidFill>
                <a:latin typeface="Arial"/>
              </a:rPr>
              <a:t>brind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6"/>
          <a:stretch/>
        </p:blipFill>
        <p:spPr>
          <a:xfrm>
            <a:off x="6095880" y="3200400"/>
            <a:ext cx="2590920" cy="2309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6248520" y="2726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aa02"/>
                </a:solidFill>
                <a:latin typeface="Arial"/>
              </a:rPr>
              <a:t>jugo de naranj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306000" y="303840"/>
            <a:ext cx="46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30559"/>
                </a:solidFill>
                <a:latin typeface="Arial"/>
              </a:rPr>
              <a:t>hamburguesa con papas fritas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410080" y="457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n Coca-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-609480" y="-1522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657600" cy="24289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54320" y="1370520"/>
            <a:ext cx="46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istec con papas al horno y verd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1523880" cy="260964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4953600" y="16754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Un te helado</a:t>
            </a:r>
            <a:r>
              <a:rPr b="0" lang="en-US" sz="1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28:59Z</dcterms:created>
  <dc:creator>andujarlevyjon</dc:creator>
  <dc:description/>
  <dc:language>en-US</dc:language>
  <cp:lastModifiedBy>andujarlevyjon</cp:lastModifiedBy>
  <dcterms:modified xsi:type="dcterms:W3CDTF">2012-04-05T17:14:54Z</dcterms:modified>
  <cp:revision>4</cp:revision>
  <dc:subject/>
  <dc:title>        Las Comidas </dc:title>
</cp:coreProperties>
</file>